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A312-D35E-4A28-BC55-05E0EE2A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5C5-1D3C-4340-9BB7-11783DE6C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A1B-6C86-41E1-8253-1ECDD9E66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584CB-158B-4B48-8468-88568F0AA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57A0-508C-4919-B822-DC0BFFAE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457-40A9-4685-88E9-29144DC2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196B-2E07-4F4F-B544-8E04F993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F1E-2197-4A6E-8971-A2049B1D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8A7A-8757-4AB8-91F8-6051073C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120-4706-449D-84D4-72ABCE29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7F30-2298-4B07-ADD7-9C0AB335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B723-09B7-447E-89FE-D60EF5EF7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41900-B0EF-40CD-ADFB-6545899018F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king proteins – one of the jobs of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does the mRNA know when to start and when to stop read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pecial codons that tell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71. The genetic cod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Polypeptides and prote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 long chain of amino acids is called a polypeptide (many peptide bond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ometimes a protein is made of several polypeptides joined together. This will require information from the same number of ge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ne chromosome has many genes in the exon sec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ch gene codes for one polypeptide ch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group of genes that code for the protein are called a transcription un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ichael pg 84 introns and ex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 rot="1387800">
            <a:off x="-1405080" y="1989000"/>
            <a:ext cx="114746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hole picture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7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rotein synthesis and Replication together Manual pg 7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Rib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ell organelle that is the site of protein 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In the 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Linked by endoplasmic reticulu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o vesicles that release/secrete the protein the ribosom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8964720" cy="57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o problems –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cation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ode for the protein is in the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hromosomes are in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does the info get from the chromosomes in the nucleus to the ribosomes in the cytoplas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o problem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location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ode is written in nucleotide bases and proteins are built out of amino aci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does the chromosome alphabet get changed into structures that join up to make protei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ach group of 3 nucleotide bases in the DNA is called a tripl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triplet can’t leave the nucleus, so another nucleic acid comes to the nucleus to rea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ranscription (using the same co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is messenger is called m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 three bases that match the DNA triplet are called a cod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E.g   DNA       TGC   GGA  CCG  G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RNA     ACG   CCU   GGC  CU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nual pg 8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ranslation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(changing to a new co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At the ribosome-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codon comes in and brings the co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tRNA reads the codon and goes off to get the right Amino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he Amino Acids are linked together inside the ribosome to form the prote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anual pg 86, 8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365760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95640" y="1628640"/>
            <a:ext cx="489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NA is transcripted to make messenger RNA (mR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067280" y="3645000"/>
            <a:ext cx="445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mRNA is translated to make a polypept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9T04:08:04Z</dcterms:created>
  <dc:creator>Ministry of Education</dc:creator>
  <dc:description/>
  <dc:language>en-US</dc:language>
  <cp:lastModifiedBy>Ministry of Education</cp:lastModifiedBy>
  <dcterms:modified xsi:type="dcterms:W3CDTF">2009-07-09T09:21:49Z</dcterms:modified>
  <cp:revision>6</cp:revision>
  <dc:subject/>
  <dc:title>Protein Synthesis</dc:title>
</cp:coreProperties>
</file>